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F79-F4FA-4B19-A439-61A57C03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CC5-0C85-45AD-892D-64DE62E8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13B-398B-4E21-98B7-90891641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081-5F5B-408E-A88F-0FDACC8B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173-79D6-4CC5-8631-4072242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C4B-47C7-409C-BFF9-EE9B16DA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ED3-1E25-47B8-B9B7-22B3252F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435-455B-4C60-94B2-C687AB86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9C2-7389-484F-A9F1-4B58C1F8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FB0-1932-4E61-8382-27C1F1C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25D-7EC6-40FF-8F58-E975CE0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AC0-00FA-4465-A563-D2AB48CB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9088-7E41-4471-848E-1FD0EF13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12880" y="13446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63520" y="337644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257800" y="963720"/>
            <a:ext cx="15238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828800" y="336852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162080" y="505296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781680" y="990720"/>
            <a:ext cx="1524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781680" y="2286000"/>
            <a:ext cx="1524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4724280" y="3124080"/>
            <a:ext cx="1524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5029200" y="4572000"/>
            <a:ext cx="15238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1673280" y="2239920"/>
            <a:ext cx="57780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4952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>
            <a:off x="4597560" y="6324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5715000" y="175212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924200" y="4275000"/>
            <a:ext cx="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335232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487692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1409760" y="35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d8a"/>
                </a:solidFill>
                <a:latin typeface="Felix Titling"/>
                <a:ea typeface="Aharoni"/>
              </a:rPr>
              <a:t>                  </a:t>
            </a:r>
            <a:r>
              <a:rPr b="1" lang="en-US" sz="2400" spc="-1" strike="noStrike">
                <a:solidFill>
                  <a:srgbClr val="2d2d8a"/>
                </a:solidFill>
                <a:latin typeface="Felix Titling"/>
                <a:ea typeface="Aharoni"/>
              </a:rPr>
              <a:t>Math 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 Box 23" descr=""/>
          <p:cNvPicPr/>
          <p:nvPr/>
        </p:nvPicPr>
        <p:blipFill>
          <a:blip r:embed="rId1"/>
          <a:stretch/>
        </p:blipFill>
        <p:spPr>
          <a:xfrm>
            <a:off x="993600" y="1414440"/>
            <a:ext cx="1163880" cy="1139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4"/>
          <p:cNvSpPr/>
          <p:nvPr/>
        </p:nvSpPr>
        <p:spPr>
          <a:xfrm>
            <a:off x="5257800" y="127944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cred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858000" y="11430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 Box 26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1517400" cy="908280"/>
          </a:xfrm>
          <a:prstGeom prst="rect">
            <a:avLst/>
          </a:prstGeom>
          <a:ln w="0">
            <a:noFill/>
          </a:ln>
        </p:spPr>
      </p:pic>
      <p:pic>
        <p:nvPicPr>
          <p:cNvPr id="62" name="Text Box 27" descr=""/>
          <p:cNvPicPr/>
          <p:nvPr/>
        </p:nvPicPr>
        <p:blipFill>
          <a:blip r:embed="rId3"/>
          <a:stretch/>
        </p:blipFill>
        <p:spPr>
          <a:xfrm>
            <a:off x="1822320" y="3352680"/>
            <a:ext cx="1457280" cy="908280"/>
          </a:xfrm>
          <a:prstGeom prst="rect">
            <a:avLst/>
          </a:prstGeom>
          <a:ln w="0">
            <a:noFill/>
          </a:ln>
        </p:spPr>
      </p:pic>
      <p:pic>
        <p:nvPicPr>
          <p:cNvPr id="63" name="Text Box 28" descr=""/>
          <p:cNvPicPr/>
          <p:nvPr/>
        </p:nvPicPr>
        <p:blipFill>
          <a:blip r:embed="rId4"/>
          <a:stretch/>
        </p:blipFill>
        <p:spPr>
          <a:xfrm>
            <a:off x="1225440" y="5151600"/>
            <a:ext cx="1457280" cy="633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0"/>
          <p:cNvSpPr/>
          <p:nvPr/>
        </p:nvSpPr>
        <p:spPr>
          <a:xfrm>
            <a:off x="3733920" y="3505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ed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10552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opics 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455760" y="6049800"/>
            <a:ext cx="828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need help?  Call: Missy @ 260, Magui @244, Jane W. @ 242, Shawna @ 236, Jane D. @ 258, Desiree @ 2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5715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’ or be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57040" y="773280"/>
            <a:ext cx="40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f you have completed 1 semester of Algebra 1, you will need to earn 5 additional credits to meet the FUSD graduation requi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 rot="3333600">
            <a:off x="1362960" y="2653560"/>
            <a:ext cx="147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elix Titling"/>
              </a:rPr>
              <a:t>If you pas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elix Titling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Felix Titling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Felix Titling"/>
              </a:rPr>
              <a:t> sem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5"/>
          <p:cNvSpPr/>
          <p:nvPr/>
        </p:nvSpPr>
        <p:spPr>
          <a:xfrm rot="2501400">
            <a:off x="491760" y="1946160"/>
            <a:ext cx="577800" cy="1562040"/>
          </a:xfrm>
          <a:prstGeom prst="down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 rot="18934200">
            <a:off x="131040" y="2449080"/>
            <a:ext cx="140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tura MT Script Capitals"/>
                <a:ea typeface="Narkisim"/>
              </a:rPr>
              <a:t>If yo</a:t>
            </a:r>
            <a:r>
              <a:rPr b="1" lang="en-US" sz="1000" spc="-1" strike="noStrike">
                <a:solidFill>
                  <a:srgbClr val="000000"/>
                </a:solidFill>
                <a:latin typeface="Matura MT Script Capitals"/>
                <a:ea typeface="Mongolian Baiti"/>
              </a:rPr>
              <a:t>u </a:t>
            </a:r>
            <a:r>
              <a:rPr b="1" lang="en-US" sz="1000" spc="-1" strike="noStrike">
                <a:solidFill>
                  <a:srgbClr val="000000"/>
                </a:solidFill>
                <a:latin typeface="Matura MT Script Capitals"/>
                <a:ea typeface="Narkisim"/>
              </a:rPr>
              <a:t>passed 2</a:t>
            </a:r>
            <a:r>
              <a:rPr b="1" lang="en-US" sz="1000" spc="-1" strike="noStrike" baseline="30000">
                <a:solidFill>
                  <a:srgbClr val="000000"/>
                </a:solidFill>
                <a:latin typeface="Matura MT Script Capitals"/>
                <a:ea typeface="Narkisim"/>
              </a:rPr>
              <a:t>nd</a:t>
            </a:r>
            <a:r>
              <a:rPr b="1" lang="en-US" sz="1000" spc="-1" strike="noStrike">
                <a:solidFill>
                  <a:srgbClr val="000000"/>
                </a:solidFill>
                <a:latin typeface="Matura MT Script Capitals"/>
                <a:ea typeface="Narkisim"/>
              </a:rPr>
              <a:t> semeste</a:t>
            </a:r>
            <a:r>
              <a:rPr b="1" lang="en-US" sz="1000" spc="-1" strike="noStrike">
                <a:solidFill>
                  <a:srgbClr val="000000"/>
                </a:solidFill>
                <a:latin typeface="Matura MT Script Capitals"/>
                <a:ea typeface="Aparajita"/>
              </a:rPr>
              <a:t>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9:35:39Z</dcterms:created>
  <dc:creator>Technology</dc:creator>
  <dc:description/>
  <dc:language>en-US</dc:language>
  <cp:lastModifiedBy>Melissa Ulibarri</cp:lastModifiedBy>
  <dcterms:modified xsi:type="dcterms:W3CDTF">2012-04-13T15:19:46Z</dcterms:modified>
  <cp:revision>17</cp:revision>
  <dc:subject/>
  <dc:title>Slide 1</dc:title>
</cp:coreProperties>
</file>